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2F3F-7FEC-4144-B957-7FF979352C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0E16-BBFD-4154-BC58-2E0FE17441A7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47DA-979E-412A-9612-C9A51BB45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B838-8364-4058-90BE-54325230B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F0268-4CA6-45A4-81B7-3BF601FB5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E683-57A1-4DE5-8967-BDDF3EFE5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33D69-A13B-47F4-9490-2945932DF1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B5319-8B5F-48ED-B298-4929EF7E8A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93E0F-1AC4-40B9-B62C-F13D1915E7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7AF9C-85D2-4E09-B140-B03F2AFEC1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2A433-B4F9-4ABD-9133-AFFAC6DDDB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89679-F7AD-491F-A709-C2C952C208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79ED2-CED3-41E9-A46E-7E549FEB56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4A1FC-5A46-42AC-95E3-0220B860E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B6F64-33EE-43ED-ADAF-41D432C3F1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AA59C-24B0-4303-BA21-01F270730E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AB883-017E-4F7B-9A62-897FBA979B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13C81-026E-477C-807D-D486E7D366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2DA88-E1F2-4E9A-A99D-AAEEAFD23E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EB56-79B1-457C-8A88-F9D2C53D0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EBB9-A7E5-4657-810B-45E6A1435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2D03-8C9C-4558-AC4E-382874468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1A9AA-EE64-44FF-A522-951E3166B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5FF9-DA92-46C2-A317-1A2BE73E7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5CA67-ECF4-4284-B14D-8408F1DAA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6AAC-B727-4DB5-A2A4-066BBC6BE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760034E-0F33-4E1D-921E-0333C4CD08A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A6862FA-9607-43E1-A47D-43042B4B353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908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9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51264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1692353-DE2F-4537-84C1-A5D7A6C2400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A25DE73-47E7-439A-95FA-136F7301A92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http://onlinestatbook.com/stat_sim/sampling_dist/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21-09-29T12:02:39Z</dcterms:modified>
  <cp:revision>354</cp:revision>
  <dc:subject/>
  <dc:title>Exploratory Data Analysis</dc:title>
</cp:coreProperties>
</file>